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59C7-6826-4D9E-A02E-2269FC66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05FF-3F78-4F30-8F90-2C55E993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EA8D-63EE-48B2-8A4F-4C6C05C7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6CC4-AB98-41AE-A835-B20D93683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DD67-2051-43CF-A5EC-6F438232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ADE1-408F-4F45-B0FE-31875A87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E9DE-D889-42D5-9585-7728D07A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BF33-C500-45A9-86BA-2A04D88C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B6D5-03ED-4645-B45B-3E0B60B8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E801-8425-42CE-A356-EC5E571C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763A-CDEC-415A-8A62-AF8316DB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6526-5EAC-4D48-AEF7-F5006E67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DF9D-D093-46A6-90CA-D302A3C6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5814-5EE4-42F0-B876-ED0C0B16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0884-4396-4CE1-9B47-69DE52E2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909A-8A2A-44DF-ABBC-A0C2004C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73CF-B32D-414A-8C93-A9C40948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85F2-2441-491E-8C7D-E4511F47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7699-9EF9-4AEA-BFD6-9461DF5B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349D-82D0-41A4-9AB1-6F1541D2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C076-E4D3-4342-A33A-49DAF432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C1AF-51EB-40E2-9326-2DF0122A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E741-8605-446B-97BC-EA995BD9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0922-EA63-41D1-87CF-BDEB39C0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0F1B-63AB-4292-A04F-1A4F98B56E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F1F1-BC36-41E3-8F19-BAC97B20BD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are the types of Evidenc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280" y="1719360"/>
            <a:ext cx="92203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 Personal Experience (anecdotes/stor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Statistic/Reason/F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Allusion (historical referenc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 Authority and or quotes ( expert informa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  Examples and or qu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.  Analogy (comparison…like a long simi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.  Hypothetical Situ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scription of somet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.  Commentary (comments from author or oth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ypes of Evidence Pract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a partner work to prove or disprove the following statement using the worksheet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cohol is worse than other dru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 to change # 5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uthor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oupwork-Types of Evid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719000"/>
            <a:ext cx="43434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. In groups select one of the arguments below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cohol is a drug and should be treated as 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overnment should not regulate alcohol more than it already do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overnment should regulate alcohol more than it already do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should practice self-prohibi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24280" y="1752480"/>
            <a:ext cx="426744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ou will receive a type of evidence * DON’T TRADE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With your group, create a well developed paragraph that uses the type of evidence you have been given to support the argument you have selec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Don’t borrow evidence from the artic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Use the types of evidence handout to assist you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8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98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98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98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98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98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98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122400"/>
            <a:ext cx="87631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nalyzing &amp; Summarizing Evidenc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1:30:16Z</dcterms:created>
  <dc:creator>Nvasquez</dc:creator>
  <dc:description/>
  <dc:language>en-US</dc:language>
  <cp:lastModifiedBy>Nvasquez</cp:lastModifiedBy>
  <dcterms:modified xsi:type="dcterms:W3CDTF">2009-11-17T21:57:42Z</dcterms:modified>
  <cp:revision>7</cp:revision>
  <dc:subject/>
  <dc:title>What are the types of Evidence?</dc:title>
</cp:coreProperties>
</file>